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move the slid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01516-5BB7-4052-8ABF-BBA62F6062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26B0A-8ED6-4607-A247-DF0E3C44F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2934A-81BF-464C-A731-1E646C3031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F8D2F-EA64-4042-8CCD-DD96EB50F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27E4B-548D-4D2A-878E-1119D07BA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F7926-4BC2-42AB-B640-BA133EA8D9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DCE6B-9AF4-4B24-B0FF-AC58639D0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3AC7-ECEE-4124-B4CB-2A01D8C3E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470BA-FE82-47C7-84B3-E325C017AF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ED36B-F9F7-47C8-84EC-15942183C1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F7DEB-8B72-4F2A-A6DE-55BD6D208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8D56-E8D9-4DBE-AD07-9049718242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F489D-F9E7-4974-94D1-D750ABEB1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AE15-BB3E-4F9C-BCFB-96B449F6C6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1CD5E-80AF-4293-BF92-7787C60752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3855E-2255-4EC2-B3DF-D951D42D62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33971-0DE4-4171-B509-C1D40A6F21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CD318-557E-4FA7-B991-ADD2366EDD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3EE01-2A7B-4120-BB6E-BB160E2D01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6CA2-254E-4CAC-A565-2C75F6E8C5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DDFE1-D8A7-4767-AD08-29B0C1A27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13F7E-D393-4DC6-8985-535DEF109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8CB0-E007-4D59-BA0B-7CDCEC361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D40B7-5389-45EA-AA52-0339546567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B473-4410-401A-AC8A-CDD8DAEE6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0F5DF-A650-4478-8798-4F5DA4983D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9D2D-C2CF-460C-ABAA-244F52C8D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5D226-8C75-41E8-87A1-6ADA0846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6C56-A94D-4846-A043-2DF7216B4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8939-DEF8-47E4-9270-3D1BA2069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0D28-8F74-424C-B9CD-69BCDD986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115CB-DFFB-41FE-B6F9-053FC7A17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8B5F-CF2F-4FA1-AC97-D42C6D072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C88C4-9FBF-47D2-B9C2-504237709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DF055-EE8E-442F-A764-197D91D8E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89CE-A7C6-4600-ADF9-74FB0D6EE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DAE-65F3-4496-A9C5-CB8D99D22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AC8D5-4F0E-4ACB-AB9F-749F35A41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7D3D8-E8BD-44FF-8597-A8F746D89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D4CC-0E83-476B-8FB8-9CEFDAA8C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4ED61-C210-41AF-8D5B-E1D60D741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3BA93-0C19-468F-8D64-6B7A48B59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64920-2258-4D2F-BB16-0621950FB5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90CFA-E699-46AF-889E-29E71A777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99A8-5CDB-4399-AC80-10A9BE150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55FA-D44C-498B-9576-D0ADE673C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D6CC-9501-4BF0-831A-1F79286D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0094-909D-43C3-A7BB-B4AC06269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037A-0159-4977-9F0E-26EB768B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CE0B-32AD-4281-BCC1-908813577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01ABA-B683-4866-9710-E43882FA22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8D53ED42-CBB3-4819-9B5A-8C89E57D53F9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2F4DB347-B6CA-4F0B-88FF-30BBAD900672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755640" y="6388200"/>
            <a:ext cx="67690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AB9AC52F-6E93-40C6-8A32-EB5B8CCAC51B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8883-AAE8-46D1-ADA6-E7577AD84E1A}" type="slidenum">
              <a:rPr b="0" lang="en-Z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2349360"/>
            <a:ext cx="914076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Data manage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9121680" cy="312588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Contact List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561960" y="1125360"/>
            <a:ext cx="7539120" cy="49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ontact Tracing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4" name="Picture 4" descr=""/>
          <p:cNvPicPr/>
          <p:nvPr/>
        </p:nvPicPr>
        <p:blipFill>
          <a:blip r:embed="rId1"/>
          <a:stretch/>
        </p:blipFill>
        <p:spPr>
          <a:xfrm>
            <a:off x="108000" y="3429000"/>
            <a:ext cx="8950320" cy="2665440"/>
          </a:xfrm>
          <a:prstGeom prst="rect">
            <a:avLst/>
          </a:prstGeom>
          <a:ln w="19080">
            <a:solidFill>
              <a:srgbClr val="1e7fb8"/>
            </a:solidFill>
            <a:miter/>
          </a:ln>
        </p:spPr>
      </p:pic>
      <p:pic>
        <p:nvPicPr>
          <p:cNvPr id="165" name="Picture 5" descr=""/>
          <p:cNvPicPr/>
          <p:nvPr/>
        </p:nvPicPr>
        <p:blipFill>
          <a:blip r:embed="rId2"/>
          <a:stretch/>
        </p:blipFill>
        <p:spPr>
          <a:xfrm>
            <a:off x="100080" y="1413000"/>
            <a:ext cx="8950320" cy="16272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2"/>
          <p:cNvSpPr/>
          <p:nvPr/>
        </p:nvSpPr>
        <p:spPr>
          <a:xfrm>
            <a:off x="108000" y="981000"/>
            <a:ext cx="914400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Paper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2"/>
          <p:cNvSpPr/>
          <p:nvPr/>
        </p:nvSpPr>
        <p:spPr>
          <a:xfrm>
            <a:off x="108000" y="2975040"/>
            <a:ext cx="91440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000000"/>
                </a:solidFill>
                <a:uFillTx/>
                <a:latin typeface="Book Antiqua"/>
              </a:rPr>
              <a:t>Electronic Form</a:t>
            </a:r>
            <a:r>
              <a:rPr b="1" lang="en-GB" sz="2400" spc="-1" strike="noStrike">
                <a:solidFill>
                  <a:srgbClr val="000000"/>
                </a:solidFill>
                <a:latin typeface="Book Antiqua"/>
              </a:rPr>
              <a:t>: how it looks like in current Epi Info D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69" name="Picture 3" descr=""/>
          <p:cNvPicPr/>
          <p:nvPr/>
        </p:nvPicPr>
        <p:blipFill>
          <a:blip r:embed="rId1"/>
          <a:stretch/>
        </p:blipFill>
        <p:spPr>
          <a:xfrm>
            <a:off x="1887480" y="1206360"/>
            <a:ext cx="50608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"/>
          <p:cNvPicPr/>
          <p:nvPr/>
        </p:nvPicPr>
        <p:blipFill>
          <a:blip r:embed="rId1"/>
          <a:stretch/>
        </p:blipFill>
        <p:spPr>
          <a:xfrm>
            <a:off x="1266840" y="1125360"/>
            <a:ext cx="5813280" cy="499752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1488960" y="1093680"/>
            <a:ext cx="5394600" cy="49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5" name="Picture 2" descr=""/>
          <p:cNvPicPr/>
          <p:nvPr/>
        </p:nvPicPr>
        <p:blipFill>
          <a:blip r:embed="rId1"/>
          <a:stretch/>
        </p:blipFill>
        <p:spPr>
          <a:xfrm>
            <a:off x="1673280" y="1119240"/>
            <a:ext cx="5419800" cy="50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7" name="Picture 2" descr=""/>
          <p:cNvPicPr/>
          <p:nvPr/>
        </p:nvPicPr>
        <p:blipFill>
          <a:blip r:embed="rId1"/>
          <a:stretch/>
        </p:blipFill>
        <p:spPr>
          <a:xfrm>
            <a:off x="2297160" y="1125360"/>
            <a:ext cx="4290840" cy="502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79" name="Picture 2" descr=""/>
          <p:cNvPicPr/>
          <p:nvPr/>
        </p:nvPicPr>
        <p:blipFill>
          <a:blip r:embed="rId1"/>
          <a:stretch/>
        </p:blipFill>
        <p:spPr>
          <a:xfrm>
            <a:off x="1943280" y="1111320"/>
            <a:ext cx="4573440" cy="498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1" name="Picture 2" descr=""/>
          <p:cNvPicPr/>
          <p:nvPr/>
        </p:nvPicPr>
        <p:blipFill>
          <a:blip r:embed="rId1"/>
          <a:stretch/>
        </p:blipFill>
        <p:spPr>
          <a:xfrm>
            <a:off x="1838160" y="1125360"/>
            <a:ext cx="4770720" cy="50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General objective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610920" y="1988640"/>
            <a:ext cx="799308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This presentation introduces the goals of data management during an outbreak of Ebola virus disease (EVD) and some of the tools that can be used for data colle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-108000" y="11592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2800"/>
            </a:br>
            <a:r>
              <a:rPr b="1" lang="en-GB" sz="2800" spc="-1" strike="noStrike">
                <a:solidFill>
                  <a:srgbClr val="002060"/>
                </a:solidFill>
                <a:latin typeface="Arial"/>
              </a:rPr>
              <a:t>Logistics Needs Assessment Form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3" name="Picture 2" descr=""/>
          <p:cNvPicPr/>
          <p:nvPr/>
        </p:nvPicPr>
        <p:blipFill>
          <a:blip r:embed="rId1"/>
          <a:stretch/>
        </p:blipFill>
        <p:spPr>
          <a:xfrm>
            <a:off x="425520" y="1265400"/>
            <a:ext cx="8107200" cy="46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Data Management</a:t>
            </a:r>
            <a:endParaRPr b="1" lang="en-US" sz="40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85" name="Rectangle 3"/>
          <p:cNvSpPr/>
          <p:nvPr/>
        </p:nvSpPr>
        <p:spPr>
          <a:xfrm>
            <a:off x="108000" y="1197000"/>
            <a:ext cx="903600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Paper verification &amp; validation of filled 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viding daily feedback to data collectors and teams in the fie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Entering data in the database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eaning the data dai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b0f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f0"/>
                </a:solidFill>
                <a:latin typeface="Arial"/>
              </a:rPr>
              <a:t>Daily sharing of data with the central/sub-regional/regional level coordination body and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ducing required outputs that help monitor the evolution of the epidem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pidemic Curv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aily/Weekly trend graph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ge and sex distribution of cases and death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aps of cases and deaths by location, district or province; specific locations of points of interest such as treatment centers, areas/places with high population density like mines, schools, churches etc. could be shown as wel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isk factor analyses; etc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000"/>
            </a:b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000" spc="-1" strike="noStrike">
                <a:solidFill>
                  <a:srgbClr val="002060"/>
                </a:solidFill>
                <a:latin typeface="Arial"/>
              </a:rPr>
              <a:t>Epicurve by week of onset, December 2013 to 30 July 2014 (n=1406)</a:t>
            </a:r>
            <a:endParaRPr b="1" lang="en-US" sz="20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87" name="Picture 5" descr=""/>
          <p:cNvPicPr/>
          <p:nvPr/>
        </p:nvPicPr>
        <p:blipFill>
          <a:blip r:embed="rId1"/>
          <a:stretch/>
        </p:blipFill>
        <p:spPr>
          <a:xfrm>
            <a:off x="282600" y="1109520"/>
            <a:ext cx="839304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3" descr=""/>
          <p:cNvPicPr/>
          <p:nvPr/>
        </p:nvPicPr>
        <p:blipFill>
          <a:blip r:embed="rId1"/>
          <a:stretch/>
        </p:blipFill>
        <p:spPr>
          <a:xfrm>
            <a:off x="361800" y="1125360"/>
            <a:ext cx="8666280" cy="501516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CA" sz="2800" spc="-1" strike="noStrike">
                <a:solidFill>
                  <a:srgbClr val="002060"/>
                </a:solidFill>
                <a:latin typeface="Arial"/>
              </a:rPr>
              <a:t>Epidemic Curve (EVD Guinea, Weekly)</a:t>
            </a:r>
            <a:endParaRPr b="1" lang="en-US" sz="28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  <a:ea typeface="Arial"/>
              </a:rPr>
              <a:t>Sample Monitoring Outputs:</a:t>
            </a:r>
            <a:br>
              <a:rPr sz="4000"/>
            </a:br>
            <a:r>
              <a:rPr b="1" lang="en-GB" sz="26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lang="en-CA" sz="2600" spc="-1" strike="noStrike">
                <a:solidFill>
                  <a:srgbClr val="002060"/>
                </a:solidFill>
                <a:latin typeface="Arial"/>
                <a:ea typeface="Arial"/>
              </a:rPr>
              <a:t>Age, sex distribution of cases and deaths (EVD Guinea)</a:t>
            </a:r>
            <a:endParaRPr b="1" lang="en-US" sz="2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1" name="Picture 2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6913440" cy="50025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4000"/>
            </a:br>
            <a:r>
              <a:rPr b="1" lang="en-GB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3200" spc="-1" strike="noStrike">
                <a:solidFill>
                  <a:srgbClr val="002060"/>
                </a:solidFill>
                <a:latin typeface="Arial"/>
              </a:rPr>
              <a:t>Maps of cases and deaths by location</a:t>
            </a:r>
            <a:endParaRPr b="1" lang="en-US" sz="32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324000" y="1127160"/>
            <a:ext cx="82803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min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5" name="Picture 2" descr="Picture1"/>
          <p:cNvPicPr/>
          <p:nvPr/>
        </p:nvPicPr>
        <p:blipFill>
          <a:blip r:embed="rId1"/>
          <a:stretch/>
        </p:blipFill>
        <p:spPr>
          <a:xfrm>
            <a:off x="1569960" y="1106640"/>
            <a:ext cx="5881680" cy="50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002060"/>
                </a:solidFill>
                <a:latin typeface="Arial"/>
              </a:rPr>
              <a:t>Sample Monitoring Outputs:</a:t>
            </a:r>
            <a:br>
              <a:rPr sz="3400"/>
            </a:br>
            <a:r>
              <a:rPr b="1" lang="en-CA" sz="2500" spc="-1" strike="noStrike">
                <a:solidFill>
                  <a:srgbClr val="002060"/>
                </a:solidFill>
                <a:latin typeface="Arial"/>
              </a:rPr>
              <a:t>Maps of cases and deaths by location (showing treatment centers and laboratories)</a:t>
            </a:r>
            <a:endParaRPr b="1" lang="en-US" sz="25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97" name="Picture 2" descr="Picture2"/>
          <p:cNvPicPr/>
          <p:nvPr/>
        </p:nvPicPr>
        <p:blipFill>
          <a:blip r:embed="rId1"/>
          <a:stretch/>
        </p:blipFill>
        <p:spPr>
          <a:xfrm>
            <a:off x="1584360" y="1103400"/>
            <a:ext cx="5867280" cy="503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201600"/>
            <a:ext cx="91440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Learning</a:t>
            </a: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objectives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755280" y="1514520"/>
            <a:ext cx="7777080" cy="407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Explain the data management objectives during an outbreak of EV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escribe the main types of data collection tools an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Review sample monitoring outpu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  <a:ea typeface="Arial"/>
              </a:rPr>
              <a:t>Data Management objectives during EVD outbreak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50560" y="1557000"/>
            <a:ext cx="8785080" cy="41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ensure efficient management of EVD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ensure timely capture in the system of investigated case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cases (suspected, probable or confirmed) isolation, management and dischar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that all cases contacts are followed up daily for 21 days in order to identify early EVD symptoms for early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To monitor daily the magnitude (persons (sex, age, health workers etc.) infected, time and place)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o monitor procurement and supplies management in order to avoid stocko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Arial"/>
                <a:ea typeface="Arial"/>
              </a:rPr>
              <a:t>Use daily analyses as evidence to take timely required actions for the control of the outbrea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436680" y="1270080"/>
            <a:ext cx="859932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1: Patient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2: Clinical Sign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3: Hospitalization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4: Epidemiological Risk Factors and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1e7fb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e7fb8"/>
                </a:solidFill>
                <a:latin typeface="Arial"/>
              </a:rPr>
              <a:t>Section 5: Clinical Specimens and Laborato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tion 6: Patient Outcome Inform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2" name="Picture 4" descr=""/>
          <p:cNvPicPr/>
          <p:nvPr/>
        </p:nvPicPr>
        <p:blipFill>
          <a:blip r:embed="rId1"/>
          <a:stretch/>
        </p:blipFill>
        <p:spPr>
          <a:xfrm>
            <a:off x="95400" y="1436760"/>
            <a:ext cx="8869320" cy="45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0" y="1174680"/>
            <a:ext cx="9034560" cy="48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1197000"/>
            <a:ext cx="9144000" cy="30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2" descr=""/>
          <p:cNvPicPr/>
          <p:nvPr/>
        </p:nvPicPr>
        <p:blipFill>
          <a:blip r:embed="rId1"/>
          <a:stretch/>
        </p:blipFill>
        <p:spPr>
          <a:xfrm>
            <a:off x="1763640" y="1125360"/>
            <a:ext cx="5375520" cy="502452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Data collection Tools: </a:t>
            </a:r>
            <a:br>
              <a:rPr sz="3600"/>
            </a:br>
            <a:r>
              <a:rPr b="1" lang="en-GB" sz="3600" spc="-1" strike="noStrike">
                <a:solidFill>
                  <a:srgbClr val="002060"/>
                </a:solidFill>
                <a:latin typeface="Arial"/>
              </a:rPr>
              <a:t>Case Investigation Form</a:t>
            </a:r>
            <a:endParaRPr b="1" lang="en-US" sz="3600" spc="-1" strike="noStrike">
              <a:solidFill>
                <a:srgbClr val="00206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5:14:47Z</dcterms:modified>
  <cp:revision>181</cp:revision>
  <dc:subject/>
  <dc:title>DPC Training and Technical Update</dc:title>
</cp:coreProperties>
</file>